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2798-B9F8-4853-8AAA-45F48E884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F9A5-A878-4019-A7F0-6EC700B04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connection from the article to HISD’ s definition of lite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028E-5BB2-45DA-9BA1-FFFACA73C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0AB9-5A65-4981-B4BA-069B9AC10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revising to an essential understanding complete with guiding questio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odel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er centered and dire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har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 are utilizing the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Guid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 are becoming more metacog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depend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 are independent learners and are now sharing/tea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3581-79B4-4EB6-9134-D03F06F14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odel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cher centered and direc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har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 are utilizing the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Guide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 are becoming more metacogniti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depend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udents are independent learners and are now sharing/tea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821D-9086-4DEC-9160-C91B8ACD6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34B8-24B8-46BC-AF8B-4BF944126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the RAFT and the entire contim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the RAFT activity with teacher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storm ideas as a group:  What is Black Fri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on this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your experiences w/ this conce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light concerns as far as methods that teacher would take to bridge gaps in student lear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ing ques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that I acknowledge the reason that I am jumping back to the 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3032-68BA-4248-8ED6-C2F052154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the content area vocabulary terms assigned for this 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storm with chart pap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ts that take place on this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Black Fri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on this 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your personal experience with black Frida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26AE-7777-4A4A-A5CC-1ADCD98A6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rd evidence while reading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s take place after Jigs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76DE-EA61-4F3F-B977-5C4FE7F33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8B64-5666-412F-95A3-099EFD1A5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 out cheat sheet at thi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 is available on the wik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A1F8-57B6-45A3-9350-3A0489DF6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is time ask individual groups to report out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8AAF-0862-41BE-9416-C4DDE6F8D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0B76-399C-4EC6-9CC3-9D689EF75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2E42-1C71-4C94-AEA7-959924915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0CC-CE06-414A-A09D-042683573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6C69-5303-4647-8470-F2B9245EF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DD979-2CC8-45AF-86D7-BCF593F68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507C-4348-479B-AC53-7110B061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AEAC-E0FF-4F0B-8C79-5ED9B7F5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48D32-77FE-442B-816B-84F856CD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FC33-B98B-471C-8888-9ABF0C43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81080" y="2743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4184-96D0-457A-8299-CA730E7C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FE2C-1B70-424F-859C-E3A4163F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0ABC-4F43-4C28-9A19-6A290179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CC21-A3A5-46FC-A48B-6DFDF8FF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D488-BCA7-44BA-8EAA-27627EBA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FF3D-1441-4A2E-B10D-ADC54DF6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D8FB-320F-4BDF-9B3E-DC28DDA8E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E583-DE2D-4385-A471-D32C2C11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10A5-91E3-458A-8D58-805B2858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877F-AAF1-465C-8B0C-E5788403B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D879-6D32-48B5-9562-7BB5C3345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81080" y="27432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85BE-2B84-4797-A647-1E0ED8F6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75E-2849-4D5E-9C36-371FB4785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290B-E9EB-4585-B2FF-913D9896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8C98-1AE8-4109-B9E1-D710622E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E3BA-5962-431E-9F5C-09888BD9B2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A2TeaMS web lg.gif"/>
          <p:cNvPicPr/>
          <p:nvPr/>
        </p:nvPicPr>
        <p:blipFill>
          <a:blip r:embed="rId2"/>
          <a:stretch/>
        </p:blipFill>
        <p:spPr>
          <a:xfrm>
            <a:off x="380880" y="152280"/>
            <a:ext cx="1524240" cy="1067040"/>
          </a:xfrm>
          <a:prstGeom prst="rect">
            <a:avLst/>
          </a:prstGeom>
          <a:ln w="0">
            <a:noFill/>
          </a:ln>
        </p:spPr>
      </p:pic>
      <p:sp>
        <p:nvSpPr>
          <p:cNvPr id="6" name="Straight Connector 7"/>
          <p:cNvSpPr/>
          <p:nvPr/>
        </p:nvSpPr>
        <p:spPr>
          <a:xfrm>
            <a:off x="0" y="1370160"/>
            <a:ext cx="914400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traight Connector 8"/>
          <p:cNvSpPr/>
          <p:nvPr/>
        </p:nvSpPr>
        <p:spPr>
          <a:xfrm flipH="1">
            <a:off x="304920" y="1440"/>
            <a:ext cx="1440" cy="6858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A2TeaMS web lg.gif"/>
          <p:cNvPicPr/>
          <p:nvPr/>
        </p:nvPicPr>
        <p:blipFill>
          <a:blip r:embed="rId2"/>
          <a:stretch/>
        </p:blipFill>
        <p:spPr>
          <a:xfrm>
            <a:off x="380880" y="152280"/>
            <a:ext cx="1524240" cy="106704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7"/>
          <p:cNvSpPr/>
          <p:nvPr/>
        </p:nvSpPr>
        <p:spPr>
          <a:xfrm>
            <a:off x="0" y="1370160"/>
            <a:ext cx="914400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8"/>
          <p:cNvSpPr/>
          <p:nvPr/>
        </p:nvSpPr>
        <p:spPr>
          <a:xfrm flipH="1">
            <a:off x="304920" y="1440"/>
            <a:ext cx="1440" cy="68580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10"/>
          <p:cNvSpPr/>
          <p:nvPr/>
        </p:nvSpPr>
        <p:spPr>
          <a:xfrm>
            <a:off x="380880" y="2057400"/>
            <a:ext cx="8763120" cy="1600200"/>
          </a:xfrm>
          <a:prstGeom prst="roundRect">
            <a:avLst>
              <a:gd name="adj" fmla="val 16667"/>
            </a:avLst>
          </a:prstGeom>
          <a:solidFill>
            <a:srgbClr val="b9cde5"/>
          </a:solidFill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8F9A-34FD-4A58-9F57-28B8363DBB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s://a2teams.wikispaces.com/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iteracy in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ath and Science Classroom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Lite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Houston Independent School District literacy is defined as the ability to read, write, speak, listen and think effectivel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cy in Content Are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MVI_0417.AVI" descr=""/>
          <p:cNvPicPr/>
          <p:nvPr/>
        </p:nvPicPr>
        <p:blipFill>
          <a:blip r:embed="rId1"/>
          <a:stretch/>
        </p:blipFill>
        <p:spPr>
          <a:xfrm>
            <a:off x="1523880" y="1577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implement literacy strategies in your content area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gor Continu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your Jigsaw Groups, discuss the rigor continuum, and the transformation that takes place from teacher-centered to student- centered literacy instructio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y close attention to the transitions and teacher behaviors of the RAFT activity during the different stages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gor Continu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the puzzle pieces provided, complete the continuum for the KWL activity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WL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Table 3" descr=""/>
          <p:cNvPicPr/>
          <p:nvPr/>
        </p:nvPicPr>
        <p:blipFill>
          <a:blip r:embed="rId1"/>
          <a:stretch/>
        </p:blipFill>
        <p:spPr>
          <a:xfrm>
            <a:off x="384120" y="1450800"/>
            <a:ext cx="8607600" cy="525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F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 introduces the concept of RAFT, and students develop the paper with the teacher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2057400"/>
          <a:ext cx="7772400" cy="39625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di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or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bit Ca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 Ac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ry 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ic Str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ack Fr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he day after Thanksgiv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a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vings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cking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8320" y="1600200"/>
            <a:ext cx="40384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 Depos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ivers lic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ty th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in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533520" y="55627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se a minimum of 5 wor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agraph Star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black Friday . .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day after black Friday . . 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result of black Friday 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ticipation Gu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icipation Gui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ct to the statements by agreeing or disagree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ile reading, record evidence found in text related to each statemen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rie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ould the process we used in implementing the RAFT benefit studen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would you transfer this process into your classroo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nefits of Literacy Coa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MVI_0420.AVI" descr=""/>
          <p:cNvPicPr/>
          <p:nvPr/>
        </p:nvPicPr>
        <p:blipFill>
          <a:blip r:embed="rId1"/>
          <a:stretch/>
        </p:blipFill>
        <p:spPr>
          <a:xfrm>
            <a:off x="1523880" y="1577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Your Turn!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the rigor continuum for graphic organizer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acher Behav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 Behavio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brie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Literacy Commitments did we fulfill during this professional develop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literacy strategy will you commit to using in your classroom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urpose of Literacy Commit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MVI_0422.AVI" descr=""/>
          <p:cNvPicPr/>
          <p:nvPr/>
        </p:nvPicPr>
        <p:blipFill>
          <a:blip r:embed="rId1"/>
          <a:stretch/>
        </p:blipFill>
        <p:spPr>
          <a:xfrm>
            <a:off x="1523880" y="1577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fternoon S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view your HAPG for this six-wee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you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94320" indent="-198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Vocabul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Conce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 Out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(Literacy Best Practi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ease upload final draft to wik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loading to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a2teams.wikispaces.com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g i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 Lesson Plans (bottom-left marg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Literacy Strate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mplate is the first li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ect Edit this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load under appropriate content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ve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dividually (or as a team) devise a plan to implement selected strategie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alu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-Based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-Based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igsaw:  In your groups assign an individual  to each topic.  Write your name in the box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3505320"/>
          <a:ext cx="8077320" cy="1828800"/>
        </p:xfrm>
        <a:graphic>
          <a:graphicData uri="http://schemas.openxmlformats.org/drawingml/2006/table">
            <a:tbl>
              <a:tblPr/>
              <a:tblGrid>
                <a:gridCol w="2297160"/>
                <a:gridCol w="1969920"/>
                <a:gridCol w="1905120"/>
                <a:gridCol w="1905120"/>
              </a:tblGrid>
              <a:tr h="182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ame: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ea typeface="Calibri"/>
                        </a:rPr>
                        <a:t>Lakeis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A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opic:  Introduction and Scientific Literac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ame: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ea typeface="Calibri"/>
                        </a:rPr>
                        <a:t>An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B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opic:  Concept Understan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ame: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ea typeface="Calibri"/>
                        </a:rPr>
                        <a:t>A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C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Topic: Process Skills and Thinking Strateg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Name: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Calibri"/>
                          <a:ea typeface="Calibri"/>
                        </a:rPr>
                        <a:t>Wuanet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opic: Habits of the Mind, Science- Technology- Society Connections, and Methods of Teaching Scienc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-Based Discu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uring the reading you will highlight references to having students read, write, listen, or spea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chor into Literac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icipant 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will give a 2 minutes synopsis of their text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articipants B,C and 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 then find an anchor in the previous presenter’s presentation that relates their text, and give a 2 minute synopsis of the relationship.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cussion must b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bas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teracy in the Science/ Math Classro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MVI_0419.AVI" descr=""/>
          <p:cNvPicPr/>
          <p:nvPr/>
        </p:nvPicPr>
        <p:blipFill>
          <a:blip r:embed="rId1"/>
          <a:stretch/>
        </p:blipFill>
        <p:spPr>
          <a:xfrm>
            <a:off x="1523880" y="1577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we lear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MVI_0421.AVI" descr=""/>
          <p:cNvPicPr/>
          <p:nvPr/>
        </p:nvPicPr>
        <p:blipFill>
          <a:blip r:embed="rId1"/>
          <a:stretch/>
        </p:blipFill>
        <p:spPr>
          <a:xfrm>
            <a:off x="1523880" y="15778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81080" y="27432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ticipation Gu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te the Anticipation Gui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ording to the textual findings, is there evidence that supports or disproves your initial response in the anticipation guide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ease record your reflections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22:03:16Z</dcterms:created>
  <dc:creator>HISD</dc:creator>
  <dc:description/>
  <dc:language>en-US</dc:language>
  <cp:lastModifiedBy>HISD</cp:lastModifiedBy>
  <dcterms:modified xsi:type="dcterms:W3CDTF">2009-03-30T22:39:21Z</dcterms:modified>
  <cp:revision>43</cp:revision>
  <dc:subject/>
  <dc:title>Slide 1</dc:title>
</cp:coreProperties>
</file>